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663-F24D-4DED-8CFE-DEBBF5E1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7AA-ABCC-490A-9DD0-8C8B3700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B7F-902F-4012-A793-4892531F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55A-C517-443E-95F8-9C78D514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C09A-556E-4B05-BEF3-80A9DCC1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6E46-64FD-43A0-BB9F-CD797DF0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DEA6-D002-4115-B66E-EA83F975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40D8-A051-43BB-B126-DB565E92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079A-F11B-4A20-81D5-87795CF8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CC7B-6FDE-40FA-81F9-1D4B5D8F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3D3F-22FA-42EF-969A-A301BCC7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233-FE75-4415-9A70-27CC5D25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3F1A-66C8-46F7-89AD-2AC1A266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4431-78BA-4A5B-860C-C4D24D46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9D9D-8167-4D44-9D77-8CF160AD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8784-B3C7-4EFF-B4CB-C0B041F4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3599-1F90-40C9-B96E-78A4A065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AB5-168C-46A9-AA3D-EB69364C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ED3-03DA-4C80-85BE-7D6907E0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FDE-4283-42F5-A334-7D72653F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FB7-1FA4-4FC0-AA51-409DD0C9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AAE-4602-4141-8FCE-8602A1D0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FED-A7DA-41C5-A4C4-372DFCA8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D43-22DA-4A0D-B5FF-14D46D24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776E-C524-47D6-8800-3B6B0FC33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65CA-1C2F-4A25-8A1B-9E1BB2E854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Llinell rif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4000" y="1844640"/>
            <a:ext cx="3240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lwch chi roi’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hifau o 1 i 11 y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y cylchoedd f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o cyfanswm po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linell yn haf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317040" y="1197000"/>
            <a:ext cx="5433840" cy="5268960"/>
            <a:chOff x="3317040" y="1197000"/>
            <a:chExt cx="5433840" cy="5268960"/>
          </a:xfrm>
        </p:grpSpPr>
        <p:grpSp>
          <p:nvGrpSpPr>
            <p:cNvPr id="101" name=""/>
            <p:cNvGrpSpPr/>
            <p:nvPr/>
          </p:nvGrpSpPr>
          <p:grpSpPr>
            <a:xfrm>
              <a:off x="5497200" y="1197000"/>
              <a:ext cx="1074240" cy="5268960"/>
              <a:chOff x="5497200" y="1197000"/>
              <a:chExt cx="1074240" cy="5268960"/>
            </a:xfrm>
          </p:grpSpPr>
          <p:sp>
            <p:nvSpPr>
              <p:cNvPr id="102" name=""/>
              <p:cNvSpPr/>
              <p:nvPr/>
            </p:nvSpPr>
            <p:spPr>
              <a:xfrm>
                <a:off x="6034320" y="1722960"/>
                <a:ext cx="0" cy="4084200"/>
              </a:xfrm>
              <a:prstGeom prst="line">
                <a:avLst/>
              </a:prstGeom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497200" y="5411520"/>
                <a:ext cx="1072800" cy="10544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497200" y="1197000"/>
                <a:ext cx="1074240" cy="1053000"/>
              </a:xfrm>
              <a:prstGeom prst="ellipse">
                <a:avLst/>
              </a:prstGeom>
              <a:solidFill>
                <a:srgbClr val="cc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97200" y="3304440"/>
                <a:ext cx="1072800" cy="1053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051080" y="1384920"/>
              <a:ext cx="3965040" cy="4892400"/>
              <a:chOff x="4051080" y="1384920"/>
              <a:chExt cx="3965040" cy="4892400"/>
            </a:xfrm>
          </p:grpSpPr>
          <p:sp>
            <p:nvSpPr>
              <p:cNvPr id="107" name=""/>
              <p:cNvSpPr/>
              <p:nvPr/>
            </p:nvSpPr>
            <p:spPr>
              <a:xfrm flipH="1">
                <a:off x="4872240" y="2125800"/>
                <a:ext cx="2400840" cy="3304080"/>
              </a:xfrm>
              <a:prstGeom prst="line">
                <a:avLst/>
              </a:prstGeom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160000">
                <a:off x="4258800" y="5008320"/>
                <a:ext cx="1071360" cy="1054440"/>
              </a:xfrm>
              <a:prstGeom prst="ellipse">
                <a:avLst/>
              </a:prstGeom>
              <a:solidFill>
                <a:srgbClr val="00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160000">
                <a:off x="6735960" y="1599480"/>
                <a:ext cx="1072800" cy="1053000"/>
              </a:xfrm>
              <a:prstGeom prst="ellipse">
                <a:avLst/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160000">
                <a:off x="5497200" y="3304080"/>
                <a:ext cx="1071360" cy="1053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317040" y="2500200"/>
              <a:ext cx="5433840" cy="2659320"/>
              <a:chOff x="3317040" y="2500200"/>
              <a:chExt cx="5433840" cy="2659320"/>
            </a:xfrm>
          </p:grpSpPr>
          <p:sp>
            <p:nvSpPr>
              <p:cNvPr id="112" name=""/>
              <p:cNvSpPr/>
              <p:nvPr/>
            </p:nvSpPr>
            <p:spPr>
              <a:xfrm flipH="1">
                <a:off x="4118040" y="3166200"/>
                <a:ext cx="3960360" cy="1286640"/>
              </a:xfrm>
              <a:prstGeom prst="line">
                <a:avLst/>
              </a:prstGeom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320000">
                <a:off x="3465000" y="3956040"/>
                <a:ext cx="1050840" cy="1074960"/>
              </a:xfrm>
              <a:prstGeom prst="ellipse">
                <a:avLst/>
              </a:prstGeom>
              <a:solidFill>
                <a:srgbClr val="9933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320000">
                <a:off x="7551360" y="2629440"/>
                <a:ext cx="1052280" cy="1073880"/>
              </a:xfrm>
              <a:prstGeom prst="ellipse">
                <a:avLst/>
              </a:prstGeom>
              <a:solidFill>
                <a:srgbClr val="cc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4320000">
                <a:off x="5508720" y="3292560"/>
                <a:ext cx="1050840" cy="1073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317040" y="2500200"/>
              <a:ext cx="5433840" cy="2660760"/>
              <a:chOff x="3317040" y="2500200"/>
              <a:chExt cx="5433840" cy="2660760"/>
            </a:xfrm>
          </p:grpSpPr>
          <p:sp>
            <p:nvSpPr>
              <p:cNvPr id="117" name=""/>
              <p:cNvSpPr/>
              <p:nvPr/>
            </p:nvSpPr>
            <p:spPr>
              <a:xfrm flipH="1" flipV="1">
                <a:off x="4118040" y="3207960"/>
                <a:ext cx="3960360" cy="1286640"/>
              </a:xfrm>
              <a:prstGeom prst="line">
                <a:avLst/>
              </a:prstGeom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6480000">
                <a:off x="3465000" y="2628360"/>
                <a:ext cx="1050840" cy="107496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6480000">
                <a:off x="7551360" y="3957480"/>
                <a:ext cx="1052280" cy="1073880"/>
              </a:xfrm>
              <a:prstGeom prst="ellipse">
                <a:avLst/>
              </a:prstGeom>
              <a:solidFill>
                <a:srgbClr val="ff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6480000">
                <a:off x="5508360" y="3292920"/>
                <a:ext cx="1050840" cy="1073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052520" y="1384560"/>
              <a:ext cx="3963600" cy="4893840"/>
              <a:chOff x="4052520" y="1384560"/>
              <a:chExt cx="3963600" cy="4893840"/>
            </a:xfrm>
          </p:grpSpPr>
          <p:sp>
            <p:nvSpPr>
              <p:cNvPr id="122" name=""/>
              <p:cNvSpPr/>
              <p:nvPr/>
            </p:nvSpPr>
            <p:spPr>
              <a:xfrm flipH="1" flipV="1">
                <a:off x="4872240" y="2233080"/>
                <a:ext cx="2400840" cy="3304080"/>
              </a:xfrm>
              <a:prstGeom prst="line">
                <a:avLst/>
              </a:prstGeom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8640000">
                <a:off x="4259880" y="1598760"/>
                <a:ext cx="1071360" cy="1054440"/>
              </a:xfrm>
              <a:prstGeom prst="ellipse">
                <a:avLst/>
              </a:prstGeom>
              <a:solidFill>
                <a:srgbClr val="ff66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8640000">
                <a:off x="6735960" y="5010480"/>
                <a:ext cx="1072800" cy="1053000"/>
              </a:xfrm>
              <a:prstGeom prst="ellipse">
                <a:avLst/>
              </a:prstGeom>
              <a:solidFill>
                <a:srgbClr val="ff99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8640000">
                <a:off x="5498640" y="3304800"/>
                <a:ext cx="1071360" cy="10533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43:03Z</dcterms:created>
  <dc:creator>Carwyn</dc:creator>
  <dc:description/>
  <dc:language>en-US</dc:language>
  <cp:lastModifiedBy>Carwyn</cp:lastModifiedBy>
  <dcterms:modified xsi:type="dcterms:W3CDTF">2008-12-07T19:45:30Z</dcterms:modified>
  <cp:revision>1</cp:revision>
  <dc:subject/>
  <dc:title>Llinell rif</dc:title>
</cp:coreProperties>
</file>